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sldIdLst>
    <p:sldId id="256" r:id="rId13"/>
    <p:sldId id="257" r:id="rId14"/>
    <p:sldId id="258" r:id="rId15"/>
    <p:sldId id="259" r:id="rId16"/>
    <p:sldId id="260" r:id="rId17"/>
    <p:sldId id="261" r:id="rId18"/>
    <p:sldId id="262" r:id="rId19"/>
    <p:sldId id="263" r:id="rId20"/>
    <p:sldId id="264" r:id="rId21"/>
    <p:sldId id="265" r:id="rId22"/>
    <p:sldId id="26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" Target="slides/slide1.xml"/><Relationship Id="rId14" Type="http://schemas.openxmlformats.org/officeDocument/2006/relationships/slide" Target="slides/slide2.xml"/><Relationship Id="rId15" Type="http://schemas.openxmlformats.org/officeDocument/2006/relationships/slide" Target="slides/slide3.xml"/><Relationship Id="rId16" Type="http://schemas.openxmlformats.org/officeDocument/2006/relationships/slide" Target="slides/slide4.xml"/><Relationship Id="rId17" Type="http://schemas.openxmlformats.org/officeDocument/2006/relationships/slide" Target="slides/slide5.xml"/><Relationship Id="rId18" Type="http://schemas.openxmlformats.org/officeDocument/2006/relationships/slide" Target="slides/slide6.xml"/><Relationship Id="rId19" Type="http://schemas.openxmlformats.org/officeDocument/2006/relationships/slide" Target="slides/slide7.xml"/><Relationship Id="rId20" Type="http://schemas.openxmlformats.org/officeDocument/2006/relationships/slide" Target="slides/slide8.xml"/><Relationship Id="rId21" Type="http://schemas.openxmlformats.org/officeDocument/2006/relationships/slide" Target="slides/slide9.xml"/><Relationship Id="rId22" Type="http://schemas.openxmlformats.org/officeDocument/2006/relationships/slide" Target="slides/slide10.xml"/><Relationship Id="rId23" Type="http://schemas.openxmlformats.org/officeDocument/2006/relationships/slide" Target="slides/slide1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CADC0-4FEF-4D49-94A5-63BB2BFF53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BDEF-0607-4807-BB3A-B0D38A743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BA2B82-564D-4C10-B017-BF180FE44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CA9125B-5BB5-4E55-87AB-8725B5606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0548B40-3CB8-400F-8CE3-44CCEC327C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2823677-D3F1-4363-A17A-BBE9CDB02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A7E7757-EF71-462F-843E-D91BCCE2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3BD471C-E66A-481C-A41A-7C860585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E46F1F7-8951-4ADF-9010-EF42D3E75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BBB5D25-E02F-4577-8041-5CE4808F5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662A06-1DB1-431B-84ED-F829AAA2262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3190E53-DC24-41BF-B58A-9376D781FB8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AEBD-826E-4C3D-A535-2470ACFAF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595511-B4E7-4203-A121-E9653F5DD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B58B0F8-8D2E-4F97-8648-D72A52D3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F96A43B-2628-4936-AFD9-628374486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DEF00D20-EFD0-4D07-AA5A-810785EEC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5C4D5F8-B661-4621-9B78-9078994B2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84C5A58-9F90-48BC-9D94-1883ED56EF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BABA55E-4F85-4B78-BF73-A42B09982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7567FBA-2703-4147-BC8B-6AB10A60C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74C78BA-C972-4C25-ADF9-873C17AD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A65886-6F2F-4078-B3F1-A4514833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6298-3DEA-49B0-8CCA-0C0B68A9F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5A312D2-E3AE-43A3-BCBA-EF88BCBF8D8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1236CBA-0305-47FF-ADCE-E7C99BA1125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02FADC-54CB-4E29-BFEC-DD0ADE792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C34747-BFD2-41AF-8DA0-65FEAFCDA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27515F-8E07-4568-BBE7-717CC7A25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389EAA-A1B8-41B9-9B63-EE297E1554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B17D473-E0D7-4BC7-8EFF-FCFE87C1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604E79-9E20-4BC6-AA46-445E1B317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94DB4D-79A0-47ED-A566-55029487C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50348E-80F4-4790-9B1F-C10C5CE1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AB22B8-9174-4F29-921C-9E793175AEE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AA91E8-4DEB-4E79-9468-0B5532325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EB3C41-6A94-4121-9554-AAF03BFA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4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441F2F-9961-4453-B8A0-27B88B89C177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1245A8-A528-490C-895E-1A9315A58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BF7373-980C-4CAB-B077-92FE7A488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9EAE156-2984-4F7C-9999-885ED5889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AEFDD2-8FF6-4A64-9BD2-699463CBF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82CBFA0-50C1-45A6-AF7A-B6976990D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368DEC-6F9F-4A67-846E-E472B3D5F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96CB-849F-4628-A9AF-54925B738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17EBB3-A157-4248-B757-AEA7E404C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919D27-C6A9-44BC-B958-FD9DFCFFD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1635C2B-96F7-48A0-998F-9EE544CF4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0809A6-8F4B-416F-9EEF-757DDDCF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401781-067D-4DAB-AD32-44CF6871EAD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E6F1CF7-98D3-4192-87E4-B434130F18E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4880CD-EA60-4772-BE65-6D20AB5E1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05AB2F-179A-4029-8A38-41BC21C38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737214-54D2-4D22-9D83-94F4565BB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077F038-DD25-40A5-9DD9-E4BDEA935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378CF-F253-4660-8DCA-BE35AF644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AF39B7-1789-4A24-8C8A-AF689A12E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815019C-13BE-4317-9C1E-F29CD2BA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490940-3162-49A2-9C8B-A2960BA1F2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DD7E114-5E14-4900-8422-4AB6CBD10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DDD8B3-AEA6-4BD7-B0CD-43CE068DF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75CECEF-DC0A-4B5E-8A4A-76DDEA3D5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72ED38D-2929-4EF2-9475-E41558FA872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4562202-175B-4604-BB96-8B1DB8AB0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12FAB5C-4A7F-42E0-8DDA-2B94B47AE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EAA0D2B-C7E0-4588-B1E1-4987ADCF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D257-8CD5-41F2-ACCA-53C06059C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3A0E129-A1FE-4747-AEA0-A9A85C83B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742F4DE-AB72-46E4-A9E2-33F79A75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B4D7E8D-299C-4FDE-BA8D-29D1D72AF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E15686E-2DE3-4449-A5FF-911BF6E97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4F6960-F965-4CA1-B530-96C357077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87BA48D-1D88-4EEC-B77F-6EC34FE6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F972F0E-7DC1-498E-9CF6-632B6129A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2FA3B3-34D0-4C09-8A3D-3CBDEA5E3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08D523C-7D61-45EC-997F-148C7043B7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8DB7D3-6FFC-49C7-9796-B0AE8303B9A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94C3-17D8-4432-9DA4-EB2A05D9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AF1DE2-27FE-4AAD-8ED6-E923996C7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5C1A0E-0D32-4D58-A6B9-3F20256FA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924A0F-A39B-4754-95C6-026919402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594A7-FEE1-4E70-B391-2CE21C546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4B10AB-083E-46BE-AEAB-795B956EF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06632-C17C-4F13-8B80-9E58E2976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53DA15-F480-4224-BE10-B2401FD74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1A9286-5E61-43ED-A6F5-2992CCFAE8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6C710-19AE-4522-81E7-1A7149943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BECCC-A92B-42C3-9C8B-1CE704E21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78DF8-6FDE-4D8D-AC49-E87CD54FF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51A79-A2F3-480A-A47B-97449BCD17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DE915DE-C116-4785-815D-0E6C77C35CA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C52300A-506E-42E3-93E0-A47558D34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28AD0EC-7F20-41F7-9F58-C8EC9A4D3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0877E81-3107-4398-BD98-0C57037F35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C9ABD8E-5D8D-4524-977B-388BF7308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5005E98-5F79-4F76-ADE8-637756C8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BDF1B44-5DDE-496C-B71C-8EB7CDB94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87133E-AF99-4810-A52E-720E26C66D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1FCA16B-AB27-4CAC-9EB6-99393D06C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7000B-2E01-46FA-B01C-D54E8B9E6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7768C2-FAAC-4829-B3B7-6C9C4BCD2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E99C9CC-ED50-4314-BB9D-A007F16A0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4E6807A-A1F6-4511-A8BA-533A5D02F56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E6573A4-5D24-4255-9D28-93E35C78AF8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560671E-FCA5-48E9-8B0D-059760F17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23245E8-721C-4B4C-9894-C2A6521F2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46A0CDB-4E48-4A3B-816E-7001FFA9A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66883F-D5AA-4CA1-A4AC-3898E9A5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ACF4AB0-5E7C-48E5-86C1-F0086D5448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9AE91EA-A46F-4D13-AB99-1B4DD78C4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0BE1-9EA5-488F-B2F8-379AC192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3B1BBDA-4959-4A7B-9047-B3AD3251A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FC1842A-19B2-4DFE-8E6F-D8F063A72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DBD56F2-1876-411D-93A6-86BB1CFD6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B994551-FD83-4273-B396-56FAB5E5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4347A7B-F24B-426A-A633-FF34CE32D7A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4C90E2-05AD-4CA4-9604-AF807F63599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5E80B2-5096-44E3-80EE-89426B1F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29B134-4D3B-4CFC-BF1C-C426E5396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10F85E-7249-4439-8603-CD26919466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63A99C-CD90-452B-A391-1DC53218E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BAFE-4A78-4EB8-BD39-9E887D891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4AF52D-52C4-482B-A9A9-58C53F0C9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7EFD14-310F-4652-993F-171062B4D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FF80EC-EA22-43D6-A274-7C14EC6E3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314C363-D58F-41DA-8BC0-BBE1DE585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287A1E-E12E-4E97-A381-414AEFCAD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065718-4FFC-47AD-9982-3BDB46D39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A7B1C0E-22C1-4CDB-9F33-743BAEC5202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FA1E4E9-A24E-41A1-A7A4-BC743D65D1C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7A63E6A-1260-46E7-9817-E93FCAD46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14882B2-CE9D-4F82-A949-4ECE7F63B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639E-16B4-4595-9632-DC8BB12F807E}" type="datetime"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15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03.06.30 </a:t>
            </a:r>
            <a:r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總務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3F2FC-0DAC-4ABA-B992-B75E4DD69B5C}" type="slidenum">
              <a:rPr b="0" lang="zh-TW" sz="16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 type="dt" idx="2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A2F66-6F87-401A-85DA-E1D6A49F8212}" type="datetime"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15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 type="sldNum" idx="2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BC8A7-A5C5-4B77-8C14-EDBDDAB40CA6}" type="slidenum">
              <a:rPr b="0" lang="zh-TW" sz="16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3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485D8-E128-45DA-9E58-95653D204572}" type="datetime"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15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sldNum" idx="24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832D9-0CEC-4D34-8636-928093ABFCF4}" type="slidenum">
              <a:rPr b="0" lang="zh-TW" sz="16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直線接點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直線接點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橢圓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1660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000" spc="-1" strike="noStrike">
                <a:solidFill>
                  <a:srgbClr val="fefac9"/>
                </a:solidFill>
                <a:latin typeface="標楷體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C75BD-67C6-4A87-9D98-0EAC20CF43D0}" type="datetime">
              <a:rPr b="0" lang="zh-TW" sz="2000" spc="-1" strike="noStrike">
                <a:solidFill>
                  <a:srgbClr val="fefac9"/>
                </a:solidFill>
                <a:latin typeface="標楷體"/>
                <a:ea typeface="標楷體"/>
              </a:rPr>
              <a:t>115/07/28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7812000" y="6165720"/>
            <a:ext cx="992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000" spc="-1" strike="noStrike">
                <a:solidFill>
                  <a:srgbClr val="fefac9"/>
                </a:solidFill>
                <a:latin typeface="標楷體"/>
                <a:ea typeface="標楷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efac9"/>
                </a:solidFill>
                <a:latin typeface="標楷體"/>
                <a:ea typeface="標楷體"/>
              </a:rPr>
              <a:t>第</a:t>
            </a:r>
            <a:fld id="{E7255AA8-C0C9-4FB0-9854-C110CFE55289}" type="slidenum">
              <a:rPr b="0" lang="zh-TW" sz="2000" spc="-1" strike="noStrike">
                <a:solidFill>
                  <a:srgbClr val="fefac9"/>
                </a:solidFill>
                <a:latin typeface="標楷體"/>
                <a:ea typeface="標楷體"/>
              </a:rPr>
              <a:t>&lt;number&gt;</a:t>
            </a:fld>
            <a:r>
              <a:rPr b="0" lang="zh-TW" sz="2000" spc="-1" strike="noStrike">
                <a:solidFill>
                  <a:srgbClr val="fefac9"/>
                </a:solidFill>
                <a:latin typeface="標楷體"/>
                <a:ea typeface="標楷體"/>
              </a:rPr>
              <a:t>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6"/>
          </p:nvPr>
        </p:nvSpPr>
        <p:spPr>
          <a:xfrm>
            <a:off x="5791320" y="6203520"/>
            <a:ext cx="1876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0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0D166-4E6C-4CA7-8B4C-FD9BD859F76D}" type="datetime">
              <a:rPr b="0" lang="zh-TW" sz="2000" spc="-1" strike="noStrike">
                <a:solidFill>
                  <a:srgbClr val="fefac9"/>
                </a:solidFill>
                <a:latin typeface="Constantia"/>
                <a:ea typeface="標楷體"/>
              </a:rPr>
              <a:t>115/07/28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sldNum" idx="7"/>
          </p:nvPr>
        </p:nvSpPr>
        <p:spPr>
          <a:xfrm>
            <a:off x="7884720" y="6181560"/>
            <a:ext cx="1135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20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efac9"/>
                </a:solidFill>
                <a:latin typeface="Constantia"/>
                <a:ea typeface="標楷體"/>
              </a:rPr>
              <a:t>第</a:t>
            </a:r>
            <a:fld id="{82405270-6A9B-4358-ADFF-0F3EC7D5BD74}" type="slidenum">
              <a:rPr b="0" lang="zh-TW" sz="20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r>
              <a:rPr b="0" lang="zh-TW" sz="2000" spc="-1" strike="noStrike">
                <a:solidFill>
                  <a:srgbClr val="fefac9"/>
                </a:solidFill>
                <a:latin typeface="Constantia"/>
                <a:ea typeface="標楷體"/>
              </a:rPr>
              <a:t>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直線接點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8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FD4B7-7359-44FA-888F-21EE68240AE9}" type="datetime"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15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9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03.06.30 </a:t>
            </a:r>
            <a:r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總務處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D0E80-4052-4F05-81FC-8D9F87F6EEBE}" type="slidenum">
              <a:rPr b="0" lang="zh-TW" sz="16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560A-700C-4203-B9A3-E7D64F4AF92E}" type="datetime"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15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sldNum" idx="12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E30C7-77DE-4E08-BB6C-0412ED6F4F06}" type="slidenum">
              <a:rPr b="0" lang="zh-TW" sz="16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直線接點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直線接點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sldNum" idx="1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42A46-D782-4A8E-BB8C-24B6FC4AB92D}" type="slidenum">
              <a:rPr b="0" lang="zh-TW" sz="16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dt" idx="1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99C39-BA3D-4C5B-ACC7-0409DFDA5DE1}" type="datetime"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15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5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EA885-60C8-4DC8-8CE0-9FAC8A697629}" type="datetime"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15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sldNum" idx="16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A308D-AF3E-4A9C-AEC3-133421558491}" type="slidenum">
              <a:rPr b="0" lang="zh-TW" sz="16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1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70D46-B2BE-4284-9808-188DBC578121}" type="datetime"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15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18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518C9-69E7-4629-9C55-0BE041177E69}" type="slidenum">
              <a:rPr b="0" lang="zh-TW" sz="16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19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41446-B255-4B3A-8CE4-AD1A7740BFB5}" type="datetime"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15/0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sldNum" idx="2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600" spc="-1" strike="noStrike">
                <a:solidFill>
                  <a:srgbClr val="fefac9"/>
                </a:solidFill>
                <a:latin typeface="Constantia"/>
                <a:ea typeface="標楷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ECC9A-9878-4102-A50D-41DBA84820AB}" type="slidenum">
              <a:rPr b="0" lang="zh-TW" sz="16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d0d0d"/>
                </a:solidFill>
                <a:latin typeface="標楷體"/>
              </a:rPr>
              <a:t>【總務處】　報告人：許錦芳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49" name="標題 1" descr=""/>
          <p:cNvPicPr/>
          <p:nvPr/>
        </p:nvPicPr>
        <p:blipFill>
          <a:blip r:embed="rId1"/>
          <a:stretch/>
        </p:blipFill>
        <p:spPr>
          <a:xfrm>
            <a:off x="457200" y="1432080"/>
            <a:ext cx="8308800" cy="2304720"/>
          </a:xfrm>
          <a:prstGeom prst="rect">
            <a:avLst/>
          </a:prstGeom>
          <a:ln w="0">
            <a:noFill/>
          </a:ln>
        </p:spPr>
      </p:pic>
      <p:sp>
        <p:nvSpPr>
          <p:cNvPr id="450" name="投影片編號版面配置區 3"/>
          <p:cNvSpPr/>
          <p:nvPr/>
        </p:nvSpPr>
        <p:spPr>
          <a:xfrm>
            <a:off x="7812000" y="6165720"/>
            <a:ext cx="992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fefac9"/>
                </a:solidFill>
                <a:latin typeface="標楷體"/>
                <a:ea typeface="標楷體"/>
              </a:rPr>
              <a:t>第</a:t>
            </a:r>
            <a:fld id="{CEF5800B-9146-474F-AD19-B82200E6AC3B}" type="slidenum">
              <a:rPr b="0" lang="zh-TW" sz="2000" spc="-1" strike="noStrike">
                <a:solidFill>
                  <a:srgbClr val="fefac9"/>
                </a:solidFill>
                <a:latin typeface="標楷體"/>
                <a:ea typeface="標楷體"/>
              </a:rPr>
              <a:t>&lt;number&gt;</a:t>
            </a:fld>
            <a:r>
              <a:rPr b="0" lang="zh-TW" sz="2000" spc="-1" strike="noStrike">
                <a:solidFill>
                  <a:srgbClr val="fefac9"/>
                </a:solidFill>
                <a:latin typeface="標楷體"/>
                <a:ea typeface="標楷體"/>
              </a:rPr>
              <a:t>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一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暑輔午餐供應：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7/28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一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-8/22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五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除班級外，搭餐同仁取餐地點另行公告或以電郵告知。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二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暑輔晚餐供應：配合學生住宿情形辦理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三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103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學年度午、晚餐供應：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9/1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一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起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四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利用暑期執行各項設備檢修維護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4" name="投影片編號版面配置區 2"/>
          <p:cNvSpPr/>
          <p:nvPr/>
        </p:nvSpPr>
        <p:spPr>
          <a:xfrm>
            <a:off x="7885080" y="6181560"/>
            <a:ext cx="113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5E7FF-EA09-4E89-AFDD-D986D2D4FAB8}" type="slidenum">
              <a:rPr b="0" lang="zh-TW" sz="20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頁尾版面配置區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03.06.30 </a:t>
            </a:r>
            <a:r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總務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6" name="標題 4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投影片編號版面配置區 2"/>
          <p:cNvSpPr/>
          <p:nvPr/>
        </p:nvSpPr>
        <p:spPr>
          <a:xfrm>
            <a:off x="841068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7B6DB-CB8E-4016-A486-55E967A91C97}" type="slidenum">
              <a:rPr b="0" lang="zh-TW" sz="16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8" name="標題 4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494000"/>
          </a:xfrm>
          <a:prstGeom prst="rect">
            <a:avLst/>
          </a:prstGeom>
          <a:ln w="0">
            <a:noFill/>
          </a:ln>
        </p:spPr>
      </p:pic>
      <p:sp>
        <p:nvSpPr>
          <p:cNvPr id="489" name=""/>
          <p:cNvSpPr txBox="1"/>
          <p:nvPr/>
        </p:nvSpPr>
        <p:spPr>
          <a:xfrm>
            <a:off x="4647960" y="1523880"/>
            <a:ext cx="40590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感謝同仁共同留意學校各項硬體設施的安全維護，協助推動各項業務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祝福大家暑期愉快！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490" name="Picture 2" descr="C:\Users\Shie\AppData\Local\Microsoft\Windows\Temporary Internet Files\Content.IE5\KEPFETZ2\MC900440456[1].wmf"/>
          <p:cNvPicPr/>
          <p:nvPr/>
        </p:nvPicPr>
        <p:blipFill>
          <a:blip r:embed="rId2"/>
          <a:stretch/>
        </p:blipFill>
        <p:spPr>
          <a:xfrm>
            <a:off x="755640" y="2421000"/>
            <a:ext cx="3330720" cy="31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一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管理員王寳能小姐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3/28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到職，原職務代理人鐘毓修小姐同日離職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二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 103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學年度空間配置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已調整部分應修正位置標示，例如：高中部教官室。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6/17(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二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)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主管會報確認明確位置，並將新平面圖以電郵寄送予全校同仁，另於首頁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/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各單位網頁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/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總務處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/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相關資料下載公告。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7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月底調整各班級牌、辦公室名牌，另調整分機、廣播設定。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452" name="投影片編號版面配置區 2"/>
          <p:cNvSpPr/>
          <p:nvPr/>
        </p:nvSpPr>
        <p:spPr>
          <a:xfrm>
            <a:off x="7885080" y="6181560"/>
            <a:ext cx="113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AFD46-892B-4814-B367-9EB7A3DAD6AF}" type="slidenum">
              <a:rPr b="0" lang="zh-TW" sz="20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頁尾版面配置區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03.06.30 </a:t>
            </a:r>
            <a:r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總務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4" name="標題 4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三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1" lang="zh-TW" sz="2600" spc="-1" strike="noStrike">
                <a:solidFill>
                  <a:srgbClr val="ffffff"/>
                </a:solidFill>
                <a:latin typeface="Constantia"/>
              </a:rPr>
              <a:t>依法辦理教職員工離校程序，檢視要項包含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事務組：財產設備、影印卡、電梯卡、借用物品等歸還，借用宿舍者辦妥退宿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文書組：公文完成歸檔或移交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出納組：應繳交費用與後續薪資、發放聯繫資訊確認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營養師：餐費繳清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6" name="投影片編號版面配置區 2"/>
          <p:cNvSpPr/>
          <p:nvPr/>
        </p:nvSpPr>
        <p:spPr>
          <a:xfrm>
            <a:off x="7885080" y="6181560"/>
            <a:ext cx="113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C9DDA-D14D-445F-993A-FB8751588F24}" type="slidenum">
              <a:rPr b="0" lang="zh-TW" sz="20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7" name="標題 3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  <p:sp>
        <p:nvSpPr>
          <p:cNvPr id="458" name="頁尾版面配置區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03.06.30 </a:t>
            </a:r>
            <a:r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總務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一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高中部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自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103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學年度起依教育局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101.07.25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北府教中字第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1012017767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號函代收代辦費支用規定，針對一般教室使用冷氣者，收取每生每學期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200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元「冷氣機維護及汰換費」。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lnSpc>
                <a:spcPct val="90000"/>
              </a:lnSpc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規劃支用前項經費，安裝新的高二教室電錶，以利同學使用冷氣，另針對高三教室冷氣執行檢修維護。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二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「國高中化糞池改善」、「教學區門窗改善」工程預定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6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月底、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7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月初完成發包，暑假期間執行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三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活動中心：音控室經常因操作不當，損害麥克風、單槍，</a:t>
            </a:r>
            <a:r>
              <a:rPr b="1" lang="zh-TW" sz="2600" spc="-1" strike="noStrike">
                <a:solidFill>
                  <a:srgbClr val="ffffff"/>
                </a:solidFill>
                <a:latin typeface="Constantia"/>
              </a:rPr>
              <a:t>需要各借用單位務必熟悉掌握才使用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0" name="投影片編號版面配置區 2"/>
          <p:cNvSpPr/>
          <p:nvPr/>
        </p:nvSpPr>
        <p:spPr>
          <a:xfrm>
            <a:off x="7885080" y="6181560"/>
            <a:ext cx="113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1B28E-46E8-42B1-9733-1B2C1D62D89A}" type="slidenum">
              <a:rPr b="0" lang="zh-TW" sz="20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頁尾版面配置區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03.06.30 </a:t>
            </a:r>
            <a:r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總務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2" name="標題 4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四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1" lang="zh-TW" sz="2600" spc="-1" strike="noStrike">
                <a:solidFill>
                  <a:srgbClr val="ffffff"/>
                </a:solidFill>
                <a:latin typeface="Constantia"/>
              </a:rPr>
              <a:t>同仁平日如需借用會議室或公共空間，務必提早上網登錄，以免場地衝突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專科教室委由設備組全權管理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其他鑰匙有分別放置教務處設備組、總務處事務組，請配合各管控人員確認已完成場地借用再登記取用鑰匙。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五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暑輔</a:t>
            </a:r>
            <a:r>
              <a:rPr b="1" lang="zh-TW" sz="2600" spc="-1" strike="noStrike">
                <a:solidFill>
                  <a:srgbClr val="ffffff"/>
                </a:solidFill>
                <a:latin typeface="Constantia"/>
              </a:rPr>
              <a:t>上課期間學生如需外出務必完成請假或外出證，或緊急時由老師陪同，其他概不放行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六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密切辦理各項自設廚房食材、瓦斯招標作業中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4" name="投影片編號版面配置區 2"/>
          <p:cNvSpPr/>
          <p:nvPr/>
        </p:nvSpPr>
        <p:spPr>
          <a:xfrm>
            <a:off x="7885080" y="6181560"/>
            <a:ext cx="113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C4D1A-BE70-4BD2-9699-D2BB5079717A}" type="slidenum">
              <a:rPr b="0" lang="zh-TW" sz="20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頁尾版面配置區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03.06.30 </a:t>
            </a:r>
            <a:r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總務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66" name="標題 4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七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配合教育局作業中：國中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A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、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B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棟及高中班級教室等建築物耐震初評，全校消防安檢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八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暑假期間一般校園開放時段比照學期間上班上課辦理，唯因課輔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15:00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結束，配合教職員上班時間，分別開放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上午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5:00-7:00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，下午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16:00-18:30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。如遇特殊狀況，另行公告辦理。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468" name="投影片編號版面配置區 2"/>
          <p:cNvSpPr/>
          <p:nvPr/>
        </p:nvSpPr>
        <p:spPr>
          <a:xfrm>
            <a:off x="7885080" y="6181560"/>
            <a:ext cx="113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C7EF0-A2AB-4D9F-AC86-69EB4ED6A577}" type="slidenum">
              <a:rPr b="0" lang="zh-TW" sz="20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頁尾版面配置區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03.06.30 </a:t>
            </a:r>
            <a:r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總務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0" name="標題 4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ff"/>
                </a:solidFill>
                <a:latin typeface="Constantia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一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學校收發以公務為主，同仁的私人物品應儘量自行與快遞、貨運聯繫點收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二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期末校務會議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假學生宿舍餐廳辦理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(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緊接於期末餐敘後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)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，預定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6/30(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一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)14:00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開始。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配合餐敘即開始辦理簽到，請各處室互相提醒儘早到場就位。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考量現場不易檢視單槍投影，請先參閱電郵所寄之會議程序、提案單、各業務單位報告內容，以利會議順利進行。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472" name="投影片編號版面配置區 2"/>
          <p:cNvSpPr/>
          <p:nvPr/>
        </p:nvSpPr>
        <p:spPr>
          <a:xfrm>
            <a:off x="7885080" y="6181560"/>
            <a:ext cx="113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C2E29-F616-4D67-B7CB-98EDF1950EE5}" type="slidenum">
              <a:rPr b="0" lang="zh-TW" sz="20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頁尾版面配置區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03.06.30 </a:t>
            </a:r>
            <a:r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總務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4" name="標題 4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4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一</a:t>
            </a: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600" spc="-1" strike="noStrike">
                <a:solidFill>
                  <a:srgbClr val="ffffff"/>
                </a:solidFill>
                <a:latin typeface="Constantia"/>
              </a:rPr>
              <a:t>請各業務單位依規申請學生收費三聯單印製請示，並檢齊附件。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相關規範可參閱學校首頁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/ 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各單位網頁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/ 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總務處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 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/ 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相關資料下載。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性質隸屬專案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(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當學期結清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)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者，如學生照、重修及自學輔導費、教科書費、校外教學、畢業紀念冊、打靶費等，請於廠商請款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(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學期結束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)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時，與出納組確認是否仍有未繳名單，如因故未參加、無須收費，應簽註敘明理由，以利修改收費單為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0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元，積極維護學生權益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(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避免未來影響學生畢業</a:t>
            </a:r>
            <a:r>
              <a:rPr b="0" lang="en-US" sz="2400" spc="-1" strike="noStrike">
                <a:solidFill>
                  <a:srgbClr val="7c354d"/>
                </a:solidFill>
                <a:latin typeface="Constantia"/>
              </a:rPr>
              <a:t>)</a:t>
            </a:r>
            <a:r>
              <a:rPr b="0" lang="zh-TW" sz="2400" spc="-1" strike="noStrike">
                <a:solidFill>
                  <a:srgbClr val="7c354d"/>
                </a:solidFill>
                <a:latin typeface="Constantia"/>
              </a:rPr>
              <a:t>。</a:t>
            </a:r>
            <a:endParaRPr b="0" lang="en-US" sz="2400" spc="-1" strike="noStrike">
              <a:solidFill>
                <a:srgbClr val="fefac9"/>
              </a:solidFill>
              <a:latin typeface="Constantia"/>
            </a:endParaRPr>
          </a:p>
        </p:txBody>
      </p:sp>
      <p:sp>
        <p:nvSpPr>
          <p:cNvPr id="476" name="投影片編號版面配置區 2"/>
          <p:cNvSpPr/>
          <p:nvPr/>
        </p:nvSpPr>
        <p:spPr>
          <a:xfrm>
            <a:off x="7885080" y="6181560"/>
            <a:ext cx="113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DB721-9E2F-45E4-9244-202BA2115B15}" type="slidenum">
              <a:rPr b="0" lang="zh-TW" sz="20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頁尾版面配置區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03.06.30 </a:t>
            </a:r>
            <a:r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總務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8" name="標題 4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2400" spc="-1" strike="noStrike">
                <a:solidFill>
                  <a:srgbClr val="ffffff"/>
                </a:solidFill>
                <a:latin typeface="Constantia"/>
              </a:rPr>
              <a:t>二</a:t>
            </a:r>
            <a:r>
              <a:rPr b="0" lang="en-US" sz="24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2400" spc="-1" strike="noStrike">
                <a:solidFill>
                  <a:srgbClr val="ffffff"/>
                </a:solidFill>
                <a:latin typeface="Constantia"/>
              </a:rPr>
              <a:t>經費核銷之付款方式請與出納組聯繫研議並簽註於黏存單左下方</a:t>
            </a:r>
            <a:endParaRPr b="0" lang="en-US" sz="24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7c354d"/>
                </a:solidFill>
                <a:latin typeface="Constantia"/>
              </a:rPr>
              <a:t>採購案件：由事務組及組員簽註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7c354d"/>
                </a:solidFill>
                <a:latin typeface="Constantia"/>
              </a:rPr>
              <a:t>鐘點費：由業務承辦單位簽註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1" marL="639720" indent="-27288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7c354d"/>
                </a:solidFill>
                <a:latin typeface="Constantia"/>
              </a:rPr>
              <a:t>獎助學金或退費：由業務承辦單位簽註</a:t>
            </a:r>
            <a:endParaRPr b="0" lang="en-US" sz="2200" spc="-1" strike="noStrike">
              <a:solidFill>
                <a:srgbClr val="fefac9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5,000</a:t>
            </a:r>
            <a:r>
              <a:rPr b="0" lang="zh-TW" sz="1900" spc="-1" strike="noStrike">
                <a:solidFill>
                  <a:srgbClr val="ffffff"/>
                </a:solidFill>
                <a:latin typeface="Constantia"/>
              </a:rPr>
              <a:t>元以上應檢附學生或家長之金融帳戶封面影本，並建議以金山地區農會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1900" spc="-1" strike="noStrike">
                <a:solidFill>
                  <a:srgbClr val="ffffff"/>
                </a:solidFill>
                <a:latin typeface="Constantia"/>
              </a:rPr>
              <a:t>及其支會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)</a:t>
            </a:r>
            <a:r>
              <a:rPr b="0" lang="zh-TW" sz="1900" spc="-1" strike="noStrike">
                <a:solidFill>
                  <a:srgbClr val="ffffff"/>
                </a:solidFill>
                <a:latin typeface="Constantia"/>
              </a:rPr>
              <a:t>或郵局存簿為宜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1900" spc="-1" strike="noStrike">
                <a:solidFill>
                  <a:srgbClr val="ffffff"/>
                </a:solidFill>
                <a:latin typeface="Constantia"/>
              </a:rPr>
              <a:t>無匯款手續費用之損失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c376b"/>
                </a:solidFill>
                <a:latin typeface="Constantia"/>
              </a:rPr>
              <a:t>如欲劃帳給家長，另須附註關係證明</a:t>
            </a:r>
            <a:r>
              <a:rPr b="0" lang="en-US" sz="1800" spc="-1" strike="noStrike">
                <a:solidFill>
                  <a:srgbClr val="4c376b"/>
                </a:solidFill>
                <a:latin typeface="Constantia"/>
              </a:rPr>
              <a:t>(</a:t>
            </a:r>
            <a:r>
              <a:rPr b="0" lang="zh-TW" sz="1800" spc="-1" strike="noStrike">
                <a:solidFill>
                  <a:srgbClr val="4c376b"/>
                </a:solidFill>
                <a:latin typeface="Constantia"/>
              </a:rPr>
              <a:t>如戶籍謄本、身分證等可確認其關係之影本</a:t>
            </a:r>
            <a:r>
              <a:rPr b="0" lang="en-US" sz="1800" spc="-1" strike="noStrike">
                <a:solidFill>
                  <a:srgbClr val="4c376b"/>
                </a:solidFill>
                <a:latin typeface="Constantia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300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4c376b"/>
                </a:solidFill>
                <a:latin typeface="Constantia"/>
              </a:rPr>
              <a:t>確無金融帳戶者，請家長簡書簽章</a:t>
            </a:r>
            <a:endParaRPr b="0" lang="en-US" sz="18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300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5,000</a:t>
            </a:r>
            <a:r>
              <a:rPr b="0" lang="zh-TW" sz="1900" spc="-1" strike="noStrike">
                <a:solidFill>
                  <a:srgbClr val="ffffff"/>
                </a:solidFill>
                <a:latin typeface="Constantia"/>
              </a:rPr>
              <a:t>元以下如須出納轉發，對象應為在校生，清冊應有其班級、座號、姓名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(</a:t>
            </a:r>
            <a:r>
              <a:rPr b="0" lang="zh-TW" sz="1900" spc="-1" strike="noStrike">
                <a:solidFill>
                  <a:srgbClr val="ffffff"/>
                </a:solidFill>
                <a:latin typeface="Constantia"/>
              </a:rPr>
              <a:t>避免誤發</a:t>
            </a:r>
            <a:r>
              <a:rPr b="0" lang="en-US" sz="1900" spc="-1" strike="noStrike">
                <a:solidFill>
                  <a:srgbClr val="ffffff"/>
                </a:solidFill>
                <a:latin typeface="Constantia"/>
              </a:rPr>
              <a:t>)</a:t>
            </a:r>
            <a:endParaRPr b="0" lang="en-US" sz="19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0" name="投影片編號版面配置區 2"/>
          <p:cNvSpPr/>
          <p:nvPr/>
        </p:nvSpPr>
        <p:spPr>
          <a:xfrm>
            <a:off x="7885080" y="6181560"/>
            <a:ext cx="113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7B7B4-5D81-4A57-AD81-B07095E2B3A1}" type="slidenum">
              <a:rPr b="0" lang="zh-TW" sz="2000" spc="-1" strike="noStrike">
                <a:solidFill>
                  <a:srgbClr val="fefac9"/>
                </a:solidFill>
                <a:latin typeface="Constantia"/>
                <a:ea typeface="標楷體"/>
              </a:rPr>
              <a:t>&lt;number&gt;</a:t>
            </a:fld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頁尾版面配置區 3"/>
          <p:cNvSpPr/>
          <p:nvPr/>
        </p:nvSpPr>
        <p:spPr>
          <a:xfrm>
            <a:off x="2133720" y="6203880"/>
            <a:ext cx="358128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103.06.30 </a:t>
            </a:r>
            <a:r>
              <a:rPr b="0" lang="zh-TW" sz="1200" spc="-1" strike="noStrike">
                <a:solidFill>
                  <a:srgbClr val="fefac9"/>
                </a:solidFill>
                <a:latin typeface="Constantia"/>
                <a:ea typeface="標楷體"/>
              </a:rPr>
              <a:t>總務處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2" name="標題 4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6-25T14:10:18Z</dcterms:created>
  <dc:creator>Shie</dc:creator>
  <dc:description/>
  <dc:language>en-US</dc:language>
  <cp:lastModifiedBy>User</cp:lastModifiedBy>
  <dcterms:modified xsi:type="dcterms:W3CDTF">2014-06-27T06:47:37Z</dcterms:modified>
  <cp:revision>18</cp:revision>
  <dc:subject/>
  <dc:title>101學年度第2學期校務會議</dc:title>
</cp:coreProperties>
</file>